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242-4BE2-411E-A71E-000E9AEA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1AA-06F8-4EFA-A36F-2A9FCDE8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E17-DF14-4866-B064-5F316E45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301-5FA7-4ED9-81E0-DAF0E510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CF7-288C-4123-956A-397D6F95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C07-BA3E-4E11-BAAF-DA4E5CBB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FE8-6DB4-4B67-8312-14116836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578-2712-41ED-9A87-1DA467EB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4C2-3369-4DAD-AAD3-8686EDE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CC8-C28E-4133-B30E-A94BA43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4BB-C645-46F7-BF69-87C9203F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14A-21E5-468D-85F7-91E5BC32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11F4-66E1-4207-89CE-E1E81C805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/15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items for 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Vipul’s slide for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explain with 2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360" y="380880"/>
            <a:ext cx="1681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09960" y="380880"/>
            <a:ext cx="3091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Substance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685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98600" y="3808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680" y="914400"/>
            <a:ext cx="47246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5760" y="14479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consum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3840" y="2057400"/>
            <a:ext cx="1978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u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Me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7440" y="3809880"/>
            <a:ext cx="1104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starta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590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6840" y="30481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1920" y="190512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dose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5640" y="2362320"/>
            <a:ext cx="497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16600" y="2362320"/>
            <a:ext cx="279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80920" y="914400"/>
            <a:ext cx="22100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33680" y="2209680"/>
            <a:ext cx="596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7040" y="4495680"/>
            <a:ext cx="1950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Control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88960" y="13716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route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29200" y="914400"/>
            <a:ext cx="9907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914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360" y="123048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rate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914400"/>
            <a:ext cx="25146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2280" y="358128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6800" y="6031080"/>
            <a:ext cx="787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590920" y="50292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7120" y="526896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040" y="6019920"/>
            <a:ext cx="695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029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1680" y="549756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3400" y="4495680"/>
            <a:ext cx="1950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type hl7:Control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3160" y="6031080"/>
            <a:ext cx="92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rt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866920" y="502920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3840" y="526896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98600" y="6019920"/>
            <a:ext cx="1093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3/2005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50292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8400" y="549756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914400"/>
            <a:ext cx="4572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2840" y="3429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7:subject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251460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3657600"/>
            <a:ext cx="1066680" cy="5335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572000"/>
            <a:ext cx="1523880" cy="6858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6272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251460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0" y="4038480"/>
            <a:ext cx="106668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62720" y="3747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62720" y="2895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038480"/>
            <a:ext cx="106704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6272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038480"/>
            <a:ext cx="1067040" cy="3049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qualifiers from “Lab Observ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FillerOrder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the “Vital Signs” class and make all its siblings subClassOf OWL: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hasData property to all the vital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“item” properties and made them more 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4-14T22:04:16Z</dcterms:modified>
  <cp:revision>85</cp:revision>
  <dc:subject/>
  <dc:title>Slide 1</dc:title>
</cp:coreProperties>
</file>